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05D2-6730-4A3C-86C7-06A6BE0274E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DC54-E662-4373-93E8-059F1B13161E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1B3-FC1E-453B-A150-1B806006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A94-96D1-43D1-BDBD-2F75D9B0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2DB-1AFE-499E-A741-BFDC96A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BAE-FBDB-43B0-8CFB-58171973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BEF-C8C5-4A38-8FE6-75197C96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FDD-CC9F-4F01-944F-4A58B7E0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160-FAF7-43C6-A84C-8F59958C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52D-74CB-4FAE-AF01-CBD17339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37A-7E4D-4EFE-9DE4-275D1B6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6E2-89CD-41CE-89F6-D85F45F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51B-04B7-4B5B-B9FA-6A46CC6C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406-1E29-4D3F-867F-158120CF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79280" y="189000"/>
            <a:ext cx="8785440" cy="718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pic>
        <p:nvPicPr>
          <p:cNvPr id="2" name="Picture 15" descr="sife_muenster_4c_weiss"/>
          <p:cNvPicPr/>
          <p:nvPr/>
        </p:nvPicPr>
        <p:blipFill>
          <a:blip r:embed="rId2"/>
          <a:stretch/>
        </p:blipFill>
        <p:spPr>
          <a:xfrm>
            <a:off x="7308720" y="6218280"/>
            <a:ext cx="722520" cy="523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supported by"/>
          <p:cNvPicPr/>
          <p:nvPr/>
        </p:nvPicPr>
        <p:blipFill>
          <a:blip r:embed="rId3"/>
          <a:stretch/>
        </p:blipFill>
        <p:spPr>
          <a:xfrm>
            <a:off x="8101080" y="6195960"/>
            <a:ext cx="796680" cy="5461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9"/>
          <p:cNvSpPr/>
          <p:nvPr/>
        </p:nvSpPr>
        <p:spPr>
          <a:xfrm>
            <a:off x="179280" y="5950080"/>
            <a:ext cx="8785440" cy="698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3980880" y="6453360"/>
            <a:ext cx="118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© SIFE Münste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Grafik 8" descr="sim_halfoutline_blue.jpg"/>
          <p:cNvPicPr/>
          <p:nvPr/>
        </p:nvPicPr>
        <p:blipFill>
          <a:blip r:embed="rId4"/>
          <a:srcRect l="17969" t="41702" r="17969" b="41702"/>
          <a:stretch/>
        </p:blipFill>
        <p:spPr>
          <a:xfrm>
            <a:off x="214200" y="6130800"/>
            <a:ext cx="307188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© SIFE Mün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426C-4D3D-46AC-A714-F71B2931CAA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863640" y="3284640"/>
            <a:ext cx="73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66"/>
                </a:solidFill>
                <a:latin typeface="Arial"/>
              </a:rPr>
              <a:t>Lerneinheit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98989"/>
                </a:solidFill>
                <a:latin typeface="Arial"/>
              </a:rPr>
              <a:t>© SIFE Müns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Grafik 7" descr="sim_halfoutline_blue.jpg"/>
          <p:cNvPicPr/>
          <p:nvPr/>
        </p:nvPicPr>
        <p:blipFill>
          <a:blip r:embed="rId1"/>
          <a:srcRect l="17969" t="41702" r="17969" b="41702"/>
          <a:stretch/>
        </p:blipFill>
        <p:spPr>
          <a:xfrm>
            <a:off x="596880" y="2000160"/>
            <a:ext cx="79502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agelschere"/>
          <p:cNvPicPr/>
          <p:nvPr/>
        </p:nvPicPr>
        <p:blipFill>
          <a:blip r:embed="rId2"/>
          <a:srcRect l="0" t="0" r="0" b="24724"/>
          <a:stretch/>
        </p:blipFill>
        <p:spPr>
          <a:xfrm rot="543600">
            <a:off x="7331040" y="4927680"/>
            <a:ext cx="928800" cy="63324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20" descr=""/>
          <p:cNvPicPr/>
          <p:nvPr/>
        </p:nvPicPr>
        <p:blipFill>
          <a:blip r:embed="rId3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9" descr=""/>
          <p:cNvPicPr/>
          <p:nvPr/>
        </p:nvPicPr>
        <p:blipFill>
          <a:blip r:embed="rId4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98" name="Rechteck 13" descr=""/>
          <p:cNvPicPr/>
          <p:nvPr/>
        </p:nvPicPr>
        <p:blipFill>
          <a:blip r:embed="rId5"/>
          <a:stretch/>
        </p:blipFill>
        <p:spPr>
          <a:xfrm>
            <a:off x="128520" y="1023840"/>
            <a:ext cx="8929800" cy="2000520"/>
          </a:xfrm>
          <a:prstGeom prst="rect">
            <a:avLst/>
          </a:prstGeom>
          <a:ln w="0">
            <a:noFill/>
          </a:ln>
        </p:spPr>
      </p:pic>
      <p:pic>
        <p:nvPicPr>
          <p:cNvPr id="99" name="Grafik 16" descr="weltkugel.gif"/>
          <p:cNvPicPr/>
          <p:nvPr/>
        </p:nvPicPr>
        <p:blipFill>
          <a:blip r:embed="rId6"/>
          <a:stretch/>
        </p:blipFill>
        <p:spPr>
          <a:xfrm>
            <a:off x="7348680" y="1214280"/>
            <a:ext cx="1438200" cy="141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tift"/>
          <p:cNvPicPr/>
          <p:nvPr/>
        </p:nvPicPr>
        <p:blipFill>
          <a:blip r:embed="rId7"/>
          <a:stretch/>
        </p:blipFill>
        <p:spPr>
          <a:xfrm>
            <a:off x="6929280" y="4500720"/>
            <a:ext cx="669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104" name="Rechteck 13" descr=""/>
          <p:cNvPicPr/>
          <p:nvPr/>
        </p:nvPicPr>
        <p:blipFill>
          <a:blip r:embed="rId4"/>
          <a:stretch/>
        </p:blipFill>
        <p:spPr>
          <a:xfrm>
            <a:off x="128520" y="1023840"/>
            <a:ext cx="8929800" cy="20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Arbeitsteilung"/>
          <p:cNvPicPr/>
          <p:nvPr/>
        </p:nvPicPr>
        <p:blipFill>
          <a:blip r:embed="rId5"/>
          <a:stretch/>
        </p:blipFill>
        <p:spPr>
          <a:xfrm>
            <a:off x="6858000" y="1428840"/>
            <a:ext cx="16430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xt Box 10" descr=""/>
          <p:cNvPicPr/>
          <p:nvPr/>
        </p:nvPicPr>
        <p:blipFill>
          <a:blip r:embed="rId1"/>
          <a:stretch/>
        </p:blipFill>
        <p:spPr>
          <a:xfrm>
            <a:off x="658800" y="4309920"/>
            <a:ext cx="782640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109" name="Rechteck 13" descr=""/>
          <p:cNvPicPr/>
          <p:nvPr/>
        </p:nvPicPr>
        <p:blipFill>
          <a:blip r:embed="rId4"/>
          <a:stretch/>
        </p:blipFill>
        <p:spPr>
          <a:xfrm>
            <a:off x="128520" y="1023840"/>
            <a:ext cx="5827680" cy="21463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5572080" y="1071720"/>
            <a:ext cx="3455640" cy="2129040"/>
            <a:chOff x="5572080" y="1071720"/>
            <a:chExt cx="3455640" cy="2129040"/>
          </a:xfrm>
        </p:grpSpPr>
        <p:sp>
          <p:nvSpPr>
            <p:cNvPr id="111" name="Text Box 7"/>
            <p:cNvSpPr/>
            <p:nvPr/>
          </p:nvSpPr>
          <p:spPr>
            <a:xfrm>
              <a:off x="7928640" y="292428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Quantit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5572080" y="107172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9"/>
            <p:cNvGrpSpPr/>
            <p:nvPr/>
          </p:nvGrpSpPr>
          <p:grpSpPr>
            <a:xfrm>
              <a:off x="6436080" y="1071720"/>
              <a:ext cx="1962720" cy="2077920"/>
              <a:chOff x="6436080" y="1071720"/>
              <a:chExt cx="1962720" cy="2077920"/>
            </a:xfrm>
          </p:grpSpPr>
          <p:sp>
            <p:nvSpPr>
              <p:cNvPr id="114" name="Line 10"/>
              <p:cNvSpPr/>
              <p:nvPr/>
            </p:nvSpPr>
            <p:spPr>
              <a:xfrm flipV="1">
                <a:off x="6436080" y="1071720"/>
                <a:ext cx="0" cy="180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6436080" y="2873160"/>
                <a:ext cx="196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 flipV="1">
                <a:off x="6669360" y="1328400"/>
                <a:ext cx="1423080" cy="1199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6669360" y="1328760"/>
                <a:ext cx="1334520" cy="1199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7375680" y="1929600"/>
                <a:ext cx="0" cy="94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 flipH="1">
                <a:off x="6436080" y="1929600"/>
                <a:ext cx="94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 Box 16"/>
              <p:cNvSpPr/>
              <p:nvPr/>
            </p:nvSpPr>
            <p:spPr>
              <a:xfrm>
                <a:off x="6828840" y="2873160"/>
                <a:ext cx="109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Text Box 17"/>
            <p:cNvSpPr/>
            <p:nvPr/>
          </p:nvSpPr>
          <p:spPr>
            <a:xfrm>
              <a:off x="5786640" y="179568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ext Box 10" descr=""/>
          <p:cNvPicPr/>
          <p:nvPr/>
        </p:nvPicPr>
        <p:blipFill>
          <a:blip r:embed="rId1"/>
          <a:stretch/>
        </p:blipFill>
        <p:spPr>
          <a:xfrm>
            <a:off x="706320" y="4133880"/>
            <a:ext cx="7778880" cy="1749240"/>
          </a:xfrm>
          <a:prstGeom prst="rect">
            <a:avLst/>
          </a:prstGeom>
          <a:ln w="0">
            <a:noFill/>
          </a:ln>
        </p:spPr>
      </p:pic>
      <p:pic>
        <p:nvPicPr>
          <p:cNvPr id="123" name="Text Box 20" descr=""/>
          <p:cNvPicPr/>
          <p:nvPr/>
        </p:nvPicPr>
        <p:blipFill>
          <a:blip r:embed="rId2"/>
          <a:stretch/>
        </p:blipFill>
        <p:spPr>
          <a:xfrm>
            <a:off x="706320" y="3524400"/>
            <a:ext cx="7755120" cy="64584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25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Variable Kosten: abhängig von produzierter Menge (z.B. Materi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Fixe Kosten: unabhängig von produzierter Menge, „fallen immer an“ (z.B. Miete, Maschine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127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29" name="Rechteck 13"/>
          <p:cNvSpPr/>
          <p:nvPr/>
        </p:nvSpPr>
        <p:spPr>
          <a:xfrm>
            <a:off x="176040" y="1071720"/>
            <a:ext cx="525312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Je mehr Stücke eines Produktes gefertigt werden, desto effizienter kann die Produktion weiterer Stücke erfolg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Kosten pro Stück sinken mit steigender M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erfkurv"/>
          <p:cNvPicPr/>
          <p:nvPr/>
        </p:nvPicPr>
        <p:blipFill>
          <a:blip r:embed="rId4"/>
          <a:stretch/>
        </p:blipFill>
        <p:spPr>
          <a:xfrm>
            <a:off x="5572080" y="1071720"/>
            <a:ext cx="335592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Eventuell: Arbeit auch außerhalb der vorgeschriebenen 15 Minuten (Schwarzarbeit), Zwischenhändler stimmen Preise ab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34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Nicht alle Akteure in der Wirtschaft halten sich an die Geset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esetzlich geregelt sind z.B. Preisabsprachen (Kartelle),                     Arbeitszeiten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286760" y="1285920"/>
            <a:ext cx="1436400" cy="1428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Anzahl der pro Jahr gekauften Handys schwankt im Laufe des Spi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ute Konjunktur zu Beginn: Handelsketten können kaum soviel anbieten wie nachgefragt wird. In den Folgejahren kommt es zur Verschlechterung </a:t>
            </a: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geringere Nachfrage </a:t>
            </a: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geringerer Gewin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39" name="Rechteck 13"/>
          <p:cNvSpPr/>
          <p:nvPr/>
        </p:nvSpPr>
        <p:spPr>
          <a:xfrm>
            <a:off x="176040" y="1071720"/>
            <a:ext cx="58960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ie Situation der gesamten Wirtschaft eines Landes oder weltweit ändert sich von Jahr zu Jah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er Zustand der Wirtschaft nennt sich Konjunkt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konjunktur_grafik_06"/>
          <p:cNvPicPr/>
          <p:nvPr/>
        </p:nvPicPr>
        <p:blipFill>
          <a:blip r:embed="rId3"/>
          <a:srcRect l="0" t="0" r="0" b="16622"/>
          <a:stretch/>
        </p:blipFill>
        <p:spPr>
          <a:xfrm>
            <a:off x="6286680" y="1071720"/>
            <a:ext cx="25891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ie Preissteigerung macht sich durch den Anstieg der Lebenshaltungskosten der Arbeiter bemerkb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43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44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Inflation bezeichnet den dauerhaften Anstieg des Preisniveaus einer Volkswirtschaf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eschieht dann, wenn in einem Staat insgesamt mehr Geld vorhanden ist, als Waren und Güter zur Verfügung steh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2:48:30Z</dcterms:created>
  <dc:creator>Anna</dc:creator>
  <dc:description/>
  <dc:language>en-US</dc:language>
  <cp:lastModifiedBy>Anna</cp:lastModifiedBy>
  <dcterms:modified xsi:type="dcterms:W3CDTF">2008-05-17T13:55:19Z</dcterms:modified>
  <cp:revision>62</cp:revision>
  <dc:subject/>
  <dc:title>Folie 1</dc:title>
</cp:coreProperties>
</file>